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2B2-BEAE-48A2-B875-CCF022E5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90C-E488-472B-B290-37F34A0C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C81-B03F-4F29-B1FA-FD53F833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818-D68D-4ABD-A9A3-C26C23C3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91AF-5AE7-4D7F-8605-C0A1A06B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F1DC-C3C2-468F-AAD4-F2BEE173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2E60-EBB1-4519-9961-0893C8B4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F9F3-E13E-4463-AD9F-DDFFCB67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210C-4821-4824-ACF2-2A84B385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7A20-2A30-4D4D-A6CB-9069E42B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E9E-95A5-4347-858E-DF6DAFE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15C-11E9-4CA8-B787-13B65B33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740A-4E19-4AD9-8B5B-08538C32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484F-DA86-4566-A605-DB7D4362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6BF7-FD23-45D9-AB73-FAB12B34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F8C4-E7EF-4393-AA34-D20BB57A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B928-8C61-46DA-B871-E5502D01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47F-BB05-4FE3-8C39-D9771D64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5B9-A427-4BD0-BBCF-ABC09E1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F79-73E0-43E5-94B2-BE81686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0F8-4CFC-4AA4-8654-B3BA1C12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95D-7F85-49CD-A8D8-21BD6A8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8C1-4FCF-476D-918D-C4598AC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271-BE84-4294-814B-05134C7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6510-B958-450F-BE13-67D1BA519D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59AA-3073-4BCB-863E-A8296BEEF1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pace Compos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watercol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2666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5181480" cy="5181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65600" y="5638680"/>
            <a:ext cx="65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ran wrap could be used to create the clouds of Neptu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447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uto and Char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240" y="4761000"/>
            <a:ext cx="80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are no longer considered planets, but objects like these could be fo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other Solar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23623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29800" y="5105520"/>
            <a:ext cx="73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ets are bright star like objects with long snowy tails that or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un. Their tails always point away from the s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93960" y="0"/>
            <a:ext cx="6350040" cy="5549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2666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6280" y="5867280"/>
            <a:ext cx="77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echniques could you use to create this most important ob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1337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lky W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1566720"/>
            <a:ext cx="6858000" cy="5139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81200" y="914400"/>
            <a:ext cx="63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blending two dark colours together for the black of sp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 star-scape with white paint and tooth pic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518148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rcu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373392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planet in our solar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t could create the cratered look. Notice where the shadow is on this world. Shade from the side to create the shado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2666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66880" y="-380880"/>
            <a:ext cx="6477120" cy="6476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7080" y="5257800"/>
            <a:ext cx="865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loud effect could be created by using saran wrap over blue water colou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ded from the side or cen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2743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5996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1080" y="5791320"/>
            <a:ext cx="83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ran wrap over a blended 2 tone water colour could create a similar look to th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819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9080" y="5257800"/>
            <a:ext cx="460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colours blended, with salt could cre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ook of this cratered surfa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5146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8120" y="-2286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14004" t="20004" r="28007" b="24001"/>
          <a:stretch/>
        </p:blipFill>
        <p:spPr>
          <a:xfrm>
            <a:off x="1143000" y="12193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4157640"/>
            <a:ext cx="4114800" cy="270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4640" y="4495680"/>
            <a:ext cx="75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large Asteroid belt is found orbiting the sun between the orbit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s and Jupi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666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1600" y="5334120"/>
            <a:ext cx="776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 is the largest planet by far in our solar syst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lanet such as this could be painted larger than the other plan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or three colours blended with saran wrap on top could create this loo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25909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flipH="1" rot="2845200">
            <a:off x="2192400" y="-234360"/>
            <a:ext cx="5813280" cy="573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7320" y="5486400"/>
            <a:ext cx="825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ke care when drawing the rings around this planet. Notice they appe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cker towards the outer edges than in the middle. Jupiter Also has ring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ough they appear much smaller in compari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819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9560" y="5181480"/>
            <a:ext cx="83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ding from the center could achieve this look. A fine grain of salt o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face may add some tex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26:23Z</dcterms:created>
  <dc:creator>nbdoe</dc:creator>
  <dc:description/>
  <dc:language>en-US</dc:language>
  <cp:lastModifiedBy>nbdoe</cp:lastModifiedBy>
  <dcterms:modified xsi:type="dcterms:W3CDTF">2007-12-03T00:56:56Z</dcterms:modified>
  <cp:revision>11</cp:revision>
  <dc:subject/>
  <dc:title>Space Compositions</dc:title>
</cp:coreProperties>
</file>